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423A-72F1-4D5F-8D16-B757CD83F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29F5-1712-4CCF-84B1-E3EDB2B82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324-7C33-4667-813F-DA4B45638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4200-6479-42B4-B9DD-0D459678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0557-DFC0-4CD9-AACA-A0FBEC8B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F103-6782-4471-A5B4-76978E5F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60EE-A256-4200-ACC7-05988395F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54DE-1BC9-4144-A00E-CAA3BB91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5AB2-F480-454B-953A-2DCDB2E1A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A967-70C8-41B6-B77E-987247FEF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61E0-42AE-4AA4-A46F-22B991973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A9A7-5377-4FE6-93AE-B116E263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35F1-9A73-49B0-8A25-B16E70FE6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BE07-141A-4EB2-9011-08E3AAFBD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989A-18CF-4982-884F-05BD7C828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EED7-C7BE-4A34-9A8D-A847DD540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2544-13C7-4D26-9CE1-3E02A190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35FE-1B23-44E7-BFD0-B00C9D2A3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F3A8-B562-4774-A4C9-5AF98CC5A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F757-F8C4-4E58-AA16-060E565B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67C8-A8D9-4107-AB91-ADAA62CFD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BEE-3FFE-42D8-BAE6-4858AE83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21D8-DA93-4E75-9BE9-442A21D5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EC8-E609-4D74-9962-3AACB3DA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E0D6-957F-47FE-B570-586027820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F466-1C5D-475F-91B3-05E168830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13F-A085-48C9-9AD0-75AF84E1D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A398-5A8B-46FB-BD94-B3D99A4FE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3E60-6095-4EC0-9DF3-B9A30487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D956-730A-4E48-8A21-A2ADE0946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8D7C-97AD-4273-AAAC-1083E8DD7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06E8-126C-4403-B884-D1270544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8E4E-FED3-4AA5-BDAE-D187B8F03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43B6-5021-45E3-960D-CE37E6BF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F64F-F2AB-4B44-802D-A1D616F8B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5F07-55ED-47C1-B808-C216FF73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AADF-9EA6-41AD-A213-6F8CEEFF4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BA64-BD59-4FC9-8DBF-AD127870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5F65-EBFC-45C0-B184-AF170713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2A05-3674-4D7E-AA1B-4D131301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3E48-CB5E-4709-9897-5EB16BC7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8844-7DFF-4BA0-9C32-E8B94F456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E0BC-5864-4D01-BA5B-939C92706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4649-A4B4-4281-8873-8968C3A5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20B3-F568-4312-94F5-615CB105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0FCD-9BCA-46CF-B369-8D2ECA616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3E79-FA33-422B-918A-D692738B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222E-6AD5-4BAA-8386-0AA03A6A9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1E5E-B55F-44B2-B84B-51BAE2ED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5C84-73BF-4094-A208-6CC75733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0C9C-CF29-400E-8388-80E69DF0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5C07-F16F-4B1C-A33C-0C76219E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90D4-4AE2-4978-B386-A31BCB0ED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A8A5-C8D1-45A7-A6A7-5A9DFCF4E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026-A960-4AD8-ACAD-93EA7DDF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A38-D262-4BD5-B951-6636EE6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1C7-5BE5-4A1E-926A-7286AD1B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4EB-D554-4708-9998-16AC5619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ED8-30D4-426C-8CBC-87BF6FF4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7AF-AD26-42FD-B147-3F1772B3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D05-CDED-45BF-A9E4-03024252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4F6-2B9E-40B3-97BE-EFA4BE3E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0A5-F373-44D0-A650-65CD119D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DB2-92A7-4533-BC17-1BFE22E8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A84-8902-4C33-8E66-6480FF4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D81-EB88-4641-9C49-22A15F61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1" marL="482760" indent="-185760">
              <a:spcBef>
                <a:spcPts val="13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2" marL="742680" indent="-148320">
              <a:spcBef>
                <a:spcPts val="1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3" marL="1040040" indent="-148320">
              <a:spcBef>
                <a:spcPts val="13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4" marL="1337040" indent="-148320">
              <a:spcBef>
                <a:spcPts val="1349"/>
              </a:spcBef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5" marL="1337040" indent="-14832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6" marL="1337040" indent="-14832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03FF-D018-4517-8A54-CB3EEF013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9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28.xml"/><Relationship Id="rId17" Type="http://schemas.openxmlformats.org/officeDocument/2006/relationships/slide" Target="slide28.xml"/><Relationship Id="rId18" Type="http://schemas.openxmlformats.org/officeDocument/2006/relationships/slide" Target="slide28.xml"/><Relationship Id="rId19" Type="http://schemas.openxmlformats.org/officeDocument/2006/relationships/slide" Target="slide26.xml"/><Relationship Id="rId20" Type="http://schemas.openxmlformats.org/officeDocument/2006/relationships/slide" Target="slide26.xml"/><Relationship Id="rId21" Type="http://schemas.openxmlformats.org/officeDocument/2006/relationships/slide" Target="slide26.xml"/><Relationship Id="rId22" Type="http://schemas.openxmlformats.org/officeDocument/2006/relationships/slide" Target="slide24.xml"/><Relationship Id="rId23" Type="http://schemas.openxmlformats.org/officeDocument/2006/relationships/slide" Target="slide24.xml"/><Relationship Id="rId24" Type="http://schemas.openxmlformats.org/officeDocument/2006/relationships/slide" Target="slide24.xml"/><Relationship Id="rId25" Type="http://schemas.openxmlformats.org/officeDocument/2006/relationships/slide" Target="slide42.xml"/><Relationship Id="rId26" Type="http://schemas.openxmlformats.org/officeDocument/2006/relationships/slide" Target="slide42.xml"/><Relationship Id="rId27" Type="http://schemas.openxmlformats.org/officeDocument/2006/relationships/slide" Target="slide42.xml"/><Relationship Id="rId28" Type="http://schemas.openxmlformats.org/officeDocument/2006/relationships/slide" Target="slide40.xml"/><Relationship Id="rId29" Type="http://schemas.openxmlformats.org/officeDocument/2006/relationships/slide" Target="slide40.xml"/><Relationship Id="rId30" Type="http://schemas.openxmlformats.org/officeDocument/2006/relationships/slide" Target="slide40.xml"/><Relationship Id="rId31" Type="http://schemas.openxmlformats.org/officeDocument/2006/relationships/slide" Target="slide38.xml"/><Relationship Id="rId32" Type="http://schemas.openxmlformats.org/officeDocument/2006/relationships/slide" Target="slide38.xml"/><Relationship Id="rId33" Type="http://schemas.openxmlformats.org/officeDocument/2006/relationships/slide" Target="slide38.xml"/><Relationship Id="rId34" Type="http://schemas.openxmlformats.org/officeDocument/2006/relationships/slide" Target="slide36.xml"/><Relationship Id="rId35" Type="http://schemas.openxmlformats.org/officeDocument/2006/relationships/slide" Target="slide36.xml"/><Relationship Id="rId36" Type="http://schemas.openxmlformats.org/officeDocument/2006/relationships/slide" Target="slide36.xml"/><Relationship Id="rId37" Type="http://schemas.openxmlformats.org/officeDocument/2006/relationships/slide" Target="slide34.xml"/><Relationship Id="rId38" Type="http://schemas.openxmlformats.org/officeDocument/2006/relationships/slide" Target="slide34.xml"/><Relationship Id="rId39" Type="http://schemas.openxmlformats.org/officeDocument/2006/relationships/slide" Target="slide34.xml"/><Relationship Id="rId40" Type="http://schemas.openxmlformats.org/officeDocument/2006/relationships/slide" Target="slide52.xml"/><Relationship Id="rId41" Type="http://schemas.openxmlformats.org/officeDocument/2006/relationships/slide" Target="slide52.xml"/><Relationship Id="rId42" Type="http://schemas.openxmlformats.org/officeDocument/2006/relationships/slide" Target="slide52.xml"/><Relationship Id="rId43" Type="http://schemas.openxmlformats.org/officeDocument/2006/relationships/slide" Target="slide50.xml"/><Relationship Id="rId44" Type="http://schemas.openxmlformats.org/officeDocument/2006/relationships/slide" Target="slide50.xml"/><Relationship Id="rId45" Type="http://schemas.openxmlformats.org/officeDocument/2006/relationships/slide" Target="slide50.xml"/><Relationship Id="rId46" Type="http://schemas.openxmlformats.org/officeDocument/2006/relationships/slide" Target="slide48.xml"/><Relationship Id="rId47" Type="http://schemas.openxmlformats.org/officeDocument/2006/relationships/slide" Target="slide48.xml"/><Relationship Id="rId48" Type="http://schemas.openxmlformats.org/officeDocument/2006/relationships/slide" Target="slide48.xml"/><Relationship Id="rId49" Type="http://schemas.openxmlformats.org/officeDocument/2006/relationships/slide" Target="slide46.xml"/><Relationship Id="rId50" Type="http://schemas.openxmlformats.org/officeDocument/2006/relationships/slide" Target="slide46.xml"/><Relationship Id="rId51" Type="http://schemas.openxmlformats.org/officeDocument/2006/relationships/slide" Target="slide46.xml"/><Relationship Id="rId52" Type="http://schemas.openxmlformats.org/officeDocument/2006/relationships/slide" Target="slide44.xml"/><Relationship Id="rId53" Type="http://schemas.openxmlformats.org/officeDocument/2006/relationships/slide" Target="slide44.xml"/><Relationship Id="rId54" Type="http://schemas.openxmlformats.org/officeDocument/2006/relationships/slide" Target="slide44.xml"/><Relationship Id="rId55" Type="http://schemas.openxmlformats.org/officeDocument/2006/relationships/slide" Target="slide13.xml"/><Relationship Id="rId56" Type="http://schemas.openxmlformats.org/officeDocument/2006/relationships/slide" Target="slide13.xml"/><Relationship Id="rId57" Type="http://schemas.openxmlformats.org/officeDocument/2006/relationships/slide" Target="slide15.xml"/><Relationship Id="rId58" Type="http://schemas.openxmlformats.org/officeDocument/2006/relationships/slide" Target="slide15.xml"/><Relationship Id="rId59" Type="http://schemas.openxmlformats.org/officeDocument/2006/relationships/slide" Target="slide15.xml"/><Relationship Id="rId60" Type="http://schemas.openxmlformats.org/officeDocument/2006/relationships/slide" Target="slide20.xml"/><Relationship Id="rId61" Type="http://schemas.openxmlformats.org/officeDocument/2006/relationships/slide" Target="slide20.xml"/><Relationship Id="rId62" Type="http://schemas.openxmlformats.org/officeDocument/2006/relationships/slide" Target="slide20.xml"/><Relationship Id="rId63" Type="http://schemas.openxmlformats.org/officeDocument/2006/relationships/slide" Target="slide22.xml"/><Relationship Id="rId64" Type="http://schemas.openxmlformats.org/officeDocument/2006/relationships/slide" Target="slide22.xml"/><Relationship Id="rId65" Type="http://schemas.openxmlformats.org/officeDocument/2006/relationships/slide" Target="slide22.xml"/><Relationship Id="rId66" Type="http://schemas.openxmlformats.org/officeDocument/2006/relationships/slide" Target="slide32.xml"/><Relationship Id="rId67" Type="http://schemas.openxmlformats.org/officeDocument/2006/relationships/slide" Target="slide32.xml"/><Relationship Id="rId68" Type="http://schemas.openxmlformats.org/officeDocument/2006/relationships/slide" Target="slide32.xml"/><Relationship Id="rId69" Type="http://schemas.openxmlformats.org/officeDocument/2006/relationships/slide" Target="slide30.xml"/><Relationship Id="rId70" Type="http://schemas.openxmlformats.org/officeDocument/2006/relationships/slide" Target="slide30.xml"/><Relationship Id="rId71" Type="http://schemas.openxmlformats.org/officeDocument/2006/relationships/slide" Target="slide30.xml"/><Relationship Id="rId72" Type="http://schemas.openxmlformats.org/officeDocument/2006/relationships/slide" Target="slide18.xml"/><Relationship Id="rId73" Type="http://schemas.openxmlformats.org/officeDocument/2006/relationships/slide" Target="slide18.xml"/><Relationship Id="rId74" Type="http://schemas.openxmlformats.org/officeDocument/2006/relationships/slide" Target="slide18.xml"/><Relationship Id="rId75" Type="http://schemas.openxmlformats.org/officeDocument/2006/relationships/slide" Target="slide53.xml"/><Relationship Id="rId76" Type="http://schemas.openxmlformats.org/officeDocument/2006/relationships/slideLayout" Target="../slideLayouts/slideLayout1.xml"/><Relationship Id="rId7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0" y="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5638680" y="0"/>
            <a:ext cx="1673280" cy="1600200"/>
          </a:xfrm>
          <a:custGeom>
            <a:avLst/>
            <a:gdLst>
              <a:gd name="textAreaLeft" fmla="*/ 103680 w 1673280"/>
              <a:gd name="textAreaRight" fmla="*/ 1569600 w 16732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586" h="21600">
                <a:moveTo>
                  <a:pt x="0" y="0"/>
                </a:moveTo>
                <a:lnTo>
                  <a:pt x="22586" y="0"/>
                </a:lnTo>
                <a:lnTo>
                  <a:pt x="22586" y="21600"/>
                </a:lnTo>
                <a:lnTo>
                  <a:pt x="0" y="21600"/>
                </a:lnTo>
                <a:close/>
              </a:path>
              <a:path fill="lightenLess" w="22586" h="21600">
                <a:moveTo>
                  <a:pt x="0" y="0"/>
                </a:moveTo>
                <a:lnTo>
                  <a:pt x="22586" y="0"/>
                </a:lnTo>
                <a:lnTo>
                  <a:pt x="21186" y="1400"/>
                </a:lnTo>
                <a:lnTo>
                  <a:pt x="1400" y="1400"/>
                </a:lnTo>
                <a:close/>
              </a:path>
              <a:path fill="darken" w="22586" h="21600">
                <a:moveTo>
                  <a:pt x="22586" y="0"/>
                </a:moveTo>
                <a:lnTo>
                  <a:pt x="22586" y="21600"/>
                </a:lnTo>
                <a:lnTo>
                  <a:pt x="21186" y="20200"/>
                </a:lnTo>
                <a:lnTo>
                  <a:pt x="21186" y="1400"/>
                </a:lnTo>
                <a:close/>
              </a:path>
              <a:path fill="darkenLess" w="22586" h="21600">
                <a:moveTo>
                  <a:pt x="2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6" y="20200"/>
                </a:lnTo>
                <a:close/>
              </a:path>
              <a:path fill="lighten" w="2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m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0"/>
            <a:ext cx="1673280" cy="1600200"/>
          </a:xfrm>
          <a:custGeom>
            <a:avLst/>
            <a:gdLst>
              <a:gd name="textAreaLeft" fmla="*/ 103680 w 1673280"/>
              <a:gd name="textAreaRight" fmla="*/ 1569600 w 16732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586" h="21600">
                <a:moveTo>
                  <a:pt x="0" y="0"/>
                </a:moveTo>
                <a:lnTo>
                  <a:pt x="22586" y="0"/>
                </a:lnTo>
                <a:lnTo>
                  <a:pt x="22586" y="21600"/>
                </a:lnTo>
                <a:lnTo>
                  <a:pt x="0" y="21600"/>
                </a:lnTo>
                <a:close/>
              </a:path>
              <a:path fill="lightenLess" w="22586" h="21600">
                <a:moveTo>
                  <a:pt x="0" y="0"/>
                </a:moveTo>
                <a:lnTo>
                  <a:pt x="22586" y="0"/>
                </a:lnTo>
                <a:lnTo>
                  <a:pt x="21186" y="1400"/>
                </a:lnTo>
                <a:lnTo>
                  <a:pt x="1400" y="1400"/>
                </a:lnTo>
                <a:close/>
              </a:path>
              <a:path fill="darken" w="22586" h="21600">
                <a:moveTo>
                  <a:pt x="22586" y="0"/>
                </a:moveTo>
                <a:lnTo>
                  <a:pt x="22586" y="21600"/>
                </a:lnTo>
                <a:lnTo>
                  <a:pt x="21186" y="20200"/>
                </a:lnTo>
                <a:lnTo>
                  <a:pt x="21186" y="1400"/>
                </a:lnTo>
                <a:close/>
              </a:path>
              <a:path fill="darkenLess" w="22586" h="21600">
                <a:moveTo>
                  <a:pt x="2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6" y="20200"/>
                </a:lnTo>
                <a:close/>
              </a:path>
              <a:path fill="lighten" w="2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nd and Fo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7470720" y="0"/>
            <a:ext cx="1673280" cy="1600200"/>
          </a:xfrm>
          <a:custGeom>
            <a:avLst/>
            <a:gdLst>
              <a:gd name="textAreaLeft" fmla="*/ 103680 w 1673280"/>
              <a:gd name="textAreaRight" fmla="*/ 1569600 w 16732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586" h="21600">
                <a:moveTo>
                  <a:pt x="0" y="0"/>
                </a:moveTo>
                <a:lnTo>
                  <a:pt x="22586" y="0"/>
                </a:lnTo>
                <a:lnTo>
                  <a:pt x="22586" y="21600"/>
                </a:lnTo>
                <a:lnTo>
                  <a:pt x="0" y="21600"/>
                </a:lnTo>
                <a:close/>
              </a:path>
              <a:path fill="lightenLess" w="22586" h="21600">
                <a:moveTo>
                  <a:pt x="0" y="0"/>
                </a:moveTo>
                <a:lnTo>
                  <a:pt x="22586" y="0"/>
                </a:lnTo>
                <a:lnTo>
                  <a:pt x="21186" y="1400"/>
                </a:lnTo>
                <a:lnTo>
                  <a:pt x="1400" y="1400"/>
                </a:lnTo>
                <a:close/>
              </a:path>
              <a:path fill="darken" w="22586" h="21600">
                <a:moveTo>
                  <a:pt x="22586" y="0"/>
                </a:moveTo>
                <a:lnTo>
                  <a:pt x="22586" y="21600"/>
                </a:lnTo>
                <a:lnTo>
                  <a:pt x="21186" y="20200"/>
                </a:lnTo>
                <a:lnTo>
                  <a:pt x="21186" y="1400"/>
                </a:lnTo>
                <a:close/>
              </a:path>
              <a:path fill="darkenLess" w="22586" h="21600">
                <a:moveTo>
                  <a:pt x="2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6" y="20200"/>
                </a:lnTo>
                <a:close/>
              </a:path>
              <a:path fill="lighten" w="2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t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1905120" y="0"/>
            <a:ext cx="1673280" cy="1600200"/>
          </a:xfrm>
          <a:custGeom>
            <a:avLst/>
            <a:gdLst>
              <a:gd name="textAreaLeft" fmla="*/ 103680 w 1673280"/>
              <a:gd name="textAreaRight" fmla="*/ 1569600 w 16732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586" h="21600">
                <a:moveTo>
                  <a:pt x="0" y="0"/>
                </a:moveTo>
                <a:lnTo>
                  <a:pt x="22586" y="0"/>
                </a:lnTo>
                <a:lnTo>
                  <a:pt x="22586" y="21600"/>
                </a:lnTo>
                <a:lnTo>
                  <a:pt x="0" y="21600"/>
                </a:lnTo>
                <a:close/>
              </a:path>
              <a:path fill="lightenLess" w="22586" h="21600">
                <a:moveTo>
                  <a:pt x="0" y="0"/>
                </a:moveTo>
                <a:lnTo>
                  <a:pt x="22586" y="0"/>
                </a:lnTo>
                <a:lnTo>
                  <a:pt x="21186" y="1400"/>
                </a:lnTo>
                <a:lnTo>
                  <a:pt x="1400" y="1400"/>
                </a:lnTo>
                <a:close/>
              </a:path>
              <a:path fill="darken" w="22586" h="21600">
                <a:moveTo>
                  <a:pt x="22586" y="0"/>
                </a:moveTo>
                <a:lnTo>
                  <a:pt x="22586" y="21600"/>
                </a:lnTo>
                <a:lnTo>
                  <a:pt x="21186" y="20200"/>
                </a:lnTo>
                <a:lnTo>
                  <a:pt x="21186" y="1400"/>
                </a:lnTo>
                <a:close/>
              </a:path>
              <a:path fill="darkenLess" w="22586" h="21600">
                <a:moveTo>
                  <a:pt x="2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6" y="20200"/>
                </a:lnTo>
                <a:close/>
              </a:path>
              <a:path fill="lighten" w="2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1" action="ppaction://hlinksldjump"/>
          </p:cNvPr>
          <p:cNvSpPr/>
          <p:nvPr/>
        </p:nvSpPr>
        <p:spPr>
          <a:xfrm>
            <a:off x="0" y="16002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4" action="ppaction://hlinksldjump"/>
          </p:cNvPr>
          <p:cNvSpPr/>
          <p:nvPr/>
        </p:nvSpPr>
        <p:spPr>
          <a:xfrm>
            <a:off x="0" y="2666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>
            <a:hlinkClick r:id="rId7" action="ppaction://hlinksldjump"/>
          </p:cNvPr>
          <p:cNvSpPr/>
          <p:nvPr/>
        </p:nvSpPr>
        <p:spPr>
          <a:xfrm>
            <a:off x="0" y="3733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>
            <a:hlinkClick r:id="rId10" action="ppaction://hlinksldjump"/>
          </p:cNvPr>
          <p:cNvSpPr/>
          <p:nvPr/>
        </p:nvSpPr>
        <p:spPr>
          <a:xfrm>
            <a:off x="0" y="48006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>
            <a:hlinkClick r:id="rId13" action="ppaction://hlinksldjump"/>
          </p:cNvPr>
          <p:cNvSpPr/>
          <p:nvPr/>
        </p:nvSpPr>
        <p:spPr>
          <a:xfrm>
            <a:off x="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16" action="ppaction://hlinksldjump"/>
          </p:cNvPr>
          <p:cNvSpPr/>
          <p:nvPr/>
        </p:nvSpPr>
        <p:spPr>
          <a:xfrm>
            <a:off x="3809880" y="3733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>
            <a:hlinkClick r:id="rId19" action="ppaction://hlinksldjump"/>
          </p:cNvPr>
          <p:cNvSpPr/>
          <p:nvPr/>
        </p:nvSpPr>
        <p:spPr>
          <a:xfrm>
            <a:off x="3809880" y="2666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>
            <a:hlinkClick r:id="rId22" action="ppaction://hlinksldjump"/>
          </p:cNvPr>
          <p:cNvSpPr/>
          <p:nvPr/>
        </p:nvSpPr>
        <p:spPr>
          <a:xfrm>
            <a:off x="3809880" y="16002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>
            <a:hlinkClick r:id="rId25" action="ppaction://hlinksldjump"/>
          </p:cNvPr>
          <p:cNvSpPr/>
          <p:nvPr/>
        </p:nvSpPr>
        <p:spPr>
          <a:xfrm>
            <a:off x="56386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>
            <a:hlinkClick r:id="rId28" action="ppaction://hlinksldjump"/>
          </p:cNvPr>
          <p:cNvSpPr/>
          <p:nvPr/>
        </p:nvSpPr>
        <p:spPr>
          <a:xfrm>
            <a:off x="5638680" y="48006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9">
            <a:hlinkClick r:id="rId31" action="ppaction://hlinksldjump"/>
          </p:cNvPr>
          <p:cNvSpPr/>
          <p:nvPr/>
        </p:nvSpPr>
        <p:spPr>
          <a:xfrm>
            <a:off x="5638680" y="3733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0">
            <a:hlinkClick r:id="rId34" action="ppaction://hlinksldjump"/>
          </p:cNvPr>
          <p:cNvSpPr/>
          <p:nvPr/>
        </p:nvSpPr>
        <p:spPr>
          <a:xfrm>
            <a:off x="5638680" y="2666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1">
            <a:hlinkClick r:id="rId37" action="ppaction://hlinksldjump"/>
          </p:cNvPr>
          <p:cNvSpPr/>
          <p:nvPr/>
        </p:nvSpPr>
        <p:spPr>
          <a:xfrm>
            <a:off x="5638680" y="16002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2">
            <a:hlinkClick r:id="rId40" action="ppaction://hlinksldjump"/>
          </p:cNvPr>
          <p:cNvSpPr/>
          <p:nvPr/>
        </p:nvSpPr>
        <p:spPr>
          <a:xfrm>
            <a:off x="7467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1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>
            <a:hlinkClick r:id="rId43" action="ppaction://hlinksldjump"/>
          </p:cNvPr>
          <p:cNvSpPr/>
          <p:nvPr/>
        </p:nvSpPr>
        <p:spPr>
          <a:xfrm>
            <a:off x="7467480" y="48006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4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5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4">
            <a:hlinkClick r:id="rId46" action="ppaction://hlinksldjump"/>
          </p:cNvPr>
          <p:cNvSpPr/>
          <p:nvPr/>
        </p:nvSpPr>
        <p:spPr>
          <a:xfrm>
            <a:off x="7467480" y="3733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7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8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>
            <a:hlinkClick r:id="rId49" action="ppaction://hlinksldjump"/>
          </p:cNvPr>
          <p:cNvSpPr/>
          <p:nvPr/>
        </p:nvSpPr>
        <p:spPr>
          <a:xfrm>
            <a:off x="7467480" y="2666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0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1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>
            <a:hlinkClick r:id="rId52" action="ppaction://hlinksldjump"/>
          </p:cNvPr>
          <p:cNvSpPr/>
          <p:nvPr/>
        </p:nvSpPr>
        <p:spPr>
          <a:xfrm>
            <a:off x="7467480" y="16002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3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>
            <a:hlinkClick r:id="rId55" action="ppaction://hlinksldjump"/>
          </p:cNvPr>
          <p:cNvSpPr/>
          <p:nvPr/>
        </p:nvSpPr>
        <p:spPr>
          <a:xfrm>
            <a:off x="1905120" y="160020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6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8">
            <a:hlinkClick r:id="rId57" action="ppaction://hlinksldjump"/>
          </p:cNvPr>
          <p:cNvSpPr/>
          <p:nvPr/>
        </p:nvSpPr>
        <p:spPr>
          <a:xfrm>
            <a:off x="1905120" y="26668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8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9">
            <a:hlinkClick r:id="rId60" action="ppaction://hlinksldjump"/>
          </p:cNvPr>
          <p:cNvSpPr/>
          <p:nvPr/>
        </p:nvSpPr>
        <p:spPr>
          <a:xfrm>
            <a:off x="1905120" y="480060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1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2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0">
            <a:hlinkClick r:id="rId63" action="ppaction://hlinksldjump"/>
          </p:cNvPr>
          <p:cNvSpPr/>
          <p:nvPr/>
        </p:nvSpPr>
        <p:spPr>
          <a:xfrm>
            <a:off x="1905120" y="58672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4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5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1">
            <a:hlinkClick r:id="rId66" action="ppaction://hlinksldjump"/>
          </p:cNvPr>
          <p:cNvSpPr/>
          <p:nvPr/>
        </p:nvSpPr>
        <p:spPr>
          <a:xfrm>
            <a:off x="38098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7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8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2">
            <a:hlinkClick r:id="rId69" action="ppaction://hlinksldjump"/>
          </p:cNvPr>
          <p:cNvSpPr/>
          <p:nvPr/>
        </p:nvSpPr>
        <p:spPr>
          <a:xfrm>
            <a:off x="3809880" y="48006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0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1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3">
            <a:hlinkClick r:id="rId72" action="ppaction://hlinksldjump"/>
          </p:cNvPr>
          <p:cNvSpPr/>
          <p:nvPr/>
        </p:nvSpPr>
        <p:spPr>
          <a:xfrm>
            <a:off x="1905120" y="37339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3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5">
            <a:hlinkClick r:id="rId75" action="ppaction://hlinksldjump"/>
          </p:cNvPr>
          <p:cNvSpPr/>
          <p:nvPr/>
        </p:nvSpPr>
        <p:spPr>
          <a:xfrm>
            <a:off x="8534520" y="1066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Arial"/>
              </a:rPr>
              <a:t>The circuit is open.</a:t>
            </a:r>
            <a:endParaRPr b="0" lang="en-US" sz="9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9 volt battery has two posts on top. One post is marked with a plus sign. The other post is marked with a negative sign. What do you know about the flow of electrons out of the posts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7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107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66"/>
                </a:solidFill>
                <a:latin typeface="Arial"/>
              </a:rPr>
              <a:t>Answer: Electrons flow into one post and out of the other post</a:t>
            </a:r>
            <a:endParaRPr b="0" lang="en-US" sz="75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ial"/>
              </a:rPr>
              <a:t>Light that hits a reflective surface reflects how?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At the same angle, but in the opposite direction.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66"/>
                </a:solidFill>
                <a:latin typeface="Arial"/>
              </a:rPr>
              <a:t>When light passes through a prism, what happens to the light?</a:t>
            </a:r>
            <a:endParaRPr b="0" lang="en-US" sz="6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It is separated into red, orange, yellow, green, blue, indigo, violet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baseline="30000">
                <a:solidFill>
                  <a:srgbClr val="ffff66"/>
                </a:solidFill>
                <a:latin typeface="Arial"/>
              </a:rPr>
              <a:t>What does opaque mean?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 can not pass through i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When all the connections are made between the battery  and the bulb, the bulb lights. It takes energy to light the bulb. Where does this energy come from?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AutoShape 7">
            <a:hlinkClick r:id="" action="ppaction://hlinkshowjump?jump=nextslide"/>
          </p:cNvPr>
          <p:cNvSpPr/>
          <p:nvPr/>
        </p:nvSpPr>
        <p:spPr>
          <a:xfrm>
            <a:off x="7696080" y="5562720"/>
            <a:ext cx="1462320" cy="1279440"/>
          </a:xfrm>
          <a:custGeom>
            <a:avLst/>
            <a:gdLst>
              <a:gd name="textAreaLeft" fmla="*/ 82800 w 1462320"/>
              <a:gd name="textAreaRight" fmla="*/ 1379520 w 146232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7" h="21600">
                <a:moveTo>
                  <a:pt x="0" y="0"/>
                </a:moveTo>
                <a:lnTo>
                  <a:pt x="24687" y="0"/>
                </a:lnTo>
                <a:lnTo>
                  <a:pt x="24687" y="21600"/>
                </a:lnTo>
                <a:lnTo>
                  <a:pt x="0" y="21600"/>
                </a:lnTo>
                <a:close/>
              </a:path>
              <a:path fill="lightenLess" w="24687" h="21600">
                <a:moveTo>
                  <a:pt x="0" y="0"/>
                </a:moveTo>
                <a:lnTo>
                  <a:pt x="24687" y="0"/>
                </a:lnTo>
                <a:lnTo>
                  <a:pt x="23287" y="1400"/>
                </a:lnTo>
                <a:lnTo>
                  <a:pt x="1400" y="1400"/>
                </a:lnTo>
                <a:close/>
              </a:path>
              <a:path fill="darken" w="24687" h="21600">
                <a:moveTo>
                  <a:pt x="24687" y="0"/>
                </a:moveTo>
                <a:lnTo>
                  <a:pt x="24687" y="21600"/>
                </a:lnTo>
                <a:lnTo>
                  <a:pt x="23287" y="20200"/>
                </a:lnTo>
                <a:lnTo>
                  <a:pt x="23287" y="1400"/>
                </a:lnTo>
                <a:close/>
              </a:path>
              <a:path fill="darkenLess" w="24687" h="21600">
                <a:moveTo>
                  <a:pt x="24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7" y="20200"/>
                </a:lnTo>
                <a:close/>
              </a:path>
              <a:path fill="lighten" w="24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7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7" h="21600">
                <a:moveTo>
                  <a:pt x="13449" y="14281"/>
                </a:moveTo>
                <a:lnTo>
                  <a:pt x="13449" y="12323"/>
                </a:lnTo>
                <a:cubicBezTo>
                  <a:pt x="13449" y="11496"/>
                  <a:pt x="13779" y="10800"/>
                  <a:pt x="14380" y="10800"/>
                </a:cubicBezTo>
                <a:cubicBezTo>
                  <a:pt x="15511" y="10800"/>
                  <a:pt x="16408" y="9434"/>
                  <a:pt x="16408" y="7849"/>
                </a:cubicBezTo>
                <a:cubicBezTo>
                  <a:pt x="16408" y="5534"/>
                  <a:pt x="14554" y="3794"/>
                  <a:pt x="12343" y="3794"/>
                </a:cubicBezTo>
                <a:cubicBezTo>
                  <a:pt x="10133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8" y="5821"/>
                  <a:pt x="12343" y="5821"/>
                </a:cubicBezTo>
                <a:cubicBezTo>
                  <a:pt x="13449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9" y="9320"/>
                </a:cubicBezTo>
                <a:cubicBezTo>
                  <a:pt x="12343" y="9320"/>
                  <a:pt x="11238" y="10800"/>
                  <a:pt x="11238" y="12323"/>
                </a:cubicBezTo>
                <a:lnTo>
                  <a:pt x="11238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>
            <a:hlinkClick r:id="" action="ppaction://hlinkshowjump?jump=firstslide"/>
          </p:cNvPr>
          <p:cNvSpPr/>
          <p:nvPr/>
        </p:nvSpPr>
        <p:spPr>
          <a:xfrm>
            <a:off x="617220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does translucent mean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Some light may pass through it.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does transparent mean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"/>
              </a:rPr>
              <a:t>Answer: That All light can pass through it.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Sound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66"/>
                </a:solidFill>
                <a:latin typeface="Arial"/>
              </a:rPr>
              <a:t>Sound energy can not travel through </a:t>
            </a:r>
            <a:endParaRPr b="0" lang="en-US" sz="7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nswer:    A vacuum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A sound is more condensed when it is 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Answer: Closer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 salt lick is placed in the field. No deer have been in the field, but the salt lick is smaller. Why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 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 rain causes particles of the salt lick to disappear.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The energy comes from the battery.  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 force in the same direction as a motion will affect speed by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nswer: Increasing it.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causes the piano to move up the ramp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Force is applied by pushing the piano up the ramp.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ial"/>
              </a:rPr>
              <a:t>Friction causes things to go 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66"/>
                </a:solidFill>
                <a:latin typeface="Arial"/>
              </a:rPr>
              <a:t>Answer: Slower</a:t>
            </a:r>
            <a:endParaRPr b="0" lang="en-US" sz="7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When someone tosses a ball into the air, what causes the ball to come back down?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Gravity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-1028880">
              <a:spcBef>
                <a:spcPts val="1349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Thermal means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nswer: He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can block the flow of a current through a circuit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hen you put butter on hot toast what can you say about the temperature of the toast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66"/>
                </a:solidFill>
                <a:latin typeface="Arial"/>
              </a:rPr>
              <a:t>Answer: The temperature of the toast was at the melting point of butter or higher.</a:t>
            </a:r>
            <a:endParaRPr b="0" lang="en-US" sz="59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How does the mass of the solid candy compare to the mass of the liquid candy in the candy mold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The mass of the solid candy is greater than than the mass of the liquid candy.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st the three states of matter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"/>
              </a:rPr>
              <a:t>What is Gas, liquid and solid?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instrument measures temperature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 Thermometer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66"/>
                </a:solidFill>
                <a:latin typeface="Arial"/>
              </a:rPr>
              <a:t>When you start an experiment in which you need to time something, what should the stopwatch read when you start the experiment?</a:t>
            </a:r>
            <a:endParaRPr b="0" lang="en-US" sz="5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Answer: 0:00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What is an insulator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en working with electricity, you should avoid contact with…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Answer: Water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 hockey puck travels faster over ice than it does over concrete because the ice provides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Answer:  Less fric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The material on the outside of the toaster does not get hot, it is 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 An insulator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219320" y="838080"/>
            <a:ext cx="8610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7" name="AutoShape 5">
            <a:hlinkClick r:id="" action="ppaction://hlinkshowjump?jump=nextslide"/>
          </p:cNvPr>
          <p:cNvSpPr/>
          <p:nvPr/>
        </p:nvSpPr>
        <p:spPr>
          <a:xfrm>
            <a:off x="800100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hen the lamp switch is off, there is no light. What do you know about the circuit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8:24Z</dcterms:created>
  <dc:creator>JILL</dc:creator>
  <dc:description/>
  <dc:language>en-US</dc:language>
  <cp:lastModifiedBy>Stephanie McDonell</cp:lastModifiedBy>
  <dcterms:modified xsi:type="dcterms:W3CDTF">2012-02-13T01:25:42Z</dcterms:modified>
  <cp:revision>55</cp:revision>
  <dc:subject/>
  <dc:title>Slide 1</dc:title>
</cp:coreProperties>
</file>